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52AA3-0ECC-40C2-9CEA-81571C7A8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B90F7-8C55-4A46-9118-DEDD3E145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79912-6A73-4CF5-BC35-0A2AB5454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B12E9-11F9-47BD-9556-F6F67EDA0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F874E-0E5E-45B4-9B94-0742971D1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87750-E885-4213-AB2E-E95D4DD1A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0189E-6EA4-4605-9EBF-1DB026F61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23A38-F81F-4753-B8E8-C6B303C37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1F0C5-9212-4ABA-9811-166A41712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368DD-FD71-4EAD-AB3A-6226DA9B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4B208-24C1-4C57-84E5-DE5C40317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06F70-5F5C-4379-B5C5-CC082AE56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22F7-823C-4465-A0EA-469F7C90F7A5}"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Profesionālās izglītības un nodarbinātības trīspusējās sadarbības apakšpadome</a:t>
            </a:r>
            <a:br>
              <a:rPr sz="4000"/>
            </a:br>
            <a:r>
              <a:rPr b="0" lang="lv-LV" sz="2000" spc="-1" strike="noStrike">
                <a:solidFill>
                  <a:srgbClr val="000000"/>
                </a:solidFill>
                <a:latin typeface="Times New Roman"/>
              </a:rPr>
              <a:t>(turpmāk – PINTS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gada darbības pārska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D8DBD6C-3B08-4D74-864F-2BD6B1EE33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eģionālās profesionālās izglītības un nodarbinātības padomes darba rezultāti 2006.gadā un prioritātes 2007.gadā. NVA informācija par nodarbinātības politiku Vidzemē</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PINP nolikum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mgales RPINP sastāv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rzemes RPINP sastāva apstiprināšan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809595F-A253-4F40-B0D2-550A438923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2"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ES struktūrfondi un nodarbinātības jautājum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Cilvēkresursi un nodarbinātība” pasākumos paredzētās aktivitātes un finansējuma sadale profesionālās izglītības kvalitātes, pieejamības un efektivitātes nodrošināšanai un attīstība tautsaimniecības prasībām un reģionālajai attīstīb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F nacionālās programmas „Darba tirgus pētījumi” aktivitātes „Darba tirgus analīze un prognozēšan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VA īstenotās ESF atbalstītās nacionālās programmas „Atbalsts aktīvo nodarbinātības pasākumu ieviešanai” projektu „Bezdarbnieku pārkvalifikācija un tālākizglītība”, „Apmācību nodrošināšana sociālās atstumtības riska grupām, iekļaujot informāciju un komunikācijas tehnoloģiju atbalstu invalīdiem” un „Apmācības bezdarbnieku un darba meklētāju konkurētspējas nodrošināšanai” aktivitāšu rezultāti</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8CF6D70-2BC6-4488-91B8-A9F5EDF34E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Infrastruktūra un pakalpojumi” 1.1.pasākumā „Profesionālās izglītības infrastruktūra” plānotās aktivitātes un projekti, lai attīstītu izglītības iestāžu infrastruktūru, nodrošinātu profesionālās izglītības kvalitāti un atbilstību mūsdienu darba tirgus prasībā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struktūrfondu līdzekļu plānošana mūžizglītībā un profesionālajā izglītībā 2007.-2013.gada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Bezdarbnieku profesionālās pārkvalifikācijas un tālākizglītības iespējas un bezdarbnieku un darba meklētāju konkurētspējas paaugstināšanas iespēja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E494B81-5B84-4B9A-B773-2812F17635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onālās kvalifikācijas eksāmen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ācija par profesionālās kvalifikācijas eksāmenu rezultātiem 2006./2007.mācību 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entralizēto profesionālās kvalifikācijas eksāmenu komisiju sarakstiem kultūrizglītības nozarē 2007.gadam saskaņošan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0CF6923-AEE0-4518-9FEA-4874CF0819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rba aizsardzības jautājum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profesionālo izglītības iestāžu mācību programmā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vispārējās izglītības iestāžu mācību programmā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26F3E05-BC1E-4A6C-A28F-55A0AC0394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rjeras konsultācijas sistēma</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jeras konsultāciju sistēmas efektivitāte un tajā iesaistīto institūciju sadarbība darba devējiem un nozaru asociācij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BA8D260-0356-4F93-99C2-335FEAB74E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Ārkārtas sēde</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lvēkresursu attīstības rekomendā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C99F85-76DC-4E4D-AF6F-5CF5E6E788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ju standart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ijas standarta izstrādāšanas sasaiste ar izglītības programmu izstrādāšanu un aktualizāciju; profesiju standartu izstrāde un aktualizācija nozaru griezumā, to vieta un aktualitāte profesiju klasifikator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saskaņo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kvalifikācijas līmenis – </a:t>
            </a:r>
            <a:r>
              <a:rPr b="1" lang="en-US" sz="1800" spc="-1" strike="noStrike">
                <a:solidFill>
                  <a:srgbClr val="000000"/>
                </a:solidFill>
                <a:latin typeface="Times New Roman"/>
              </a:rPr>
              <a:t>1</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ekspertu noteikšanai izvirzī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kvalifikācijas līmenis – </a:t>
            </a:r>
            <a:r>
              <a:rPr b="1" lang="en-US" sz="1800" spc="-1" strike="noStrike">
                <a:solidFill>
                  <a:srgbClr val="000000"/>
                </a:solidFill>
                <a:latin typeface="Times New Roman"/>
              </a:rPr>
              <a:t>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5.kvalifikācijas līmenis – </a:t>
            </a:r>
            <a:r>
              <a:rPr b="1" lang="en-US" sz="1800" spc="-1" strike="noStrike">
                <a:solidFill>
                  <a:srgbClr val="000000"/>
                </a:solidFill>
                <a:latin typeface="Times New Roman"/>
              </a:rPr>
              <a:t>6</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E5F914-2A46-4A58-A0F0-BFA156B854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ēmjautājumi 2007.gada sēdēs</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000000"/>
                </a:solidFill>
                <a:latin typeface="Times New Roman"/>
              </a:rPr>
              <a:t>	</a:t>
            </a:r>
            <a:r>
              <a:rPr b="1"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	</a:t>
            </a:r>
            <a:r>
              <a:rPr b="0" lang="lv-LV" sz="1600" spc="-1" strike="noStrike">
                <a:solidFill>
                  <a:srgbClr val="000000"/>
                </a:solidFill>
                <a:latin typeface="Times New Roman"/>
              </a:rPr>
              <a:t>Jautājuma izskatīšana tika atlikta. Lai nodrošinātu profesionālās izglītības kvalitāti un atbilstību darba tirgus prasībām, iesaistot sociālos partnerus, Profesionālās izglītības administrācija līdz 2007.gada 31.decembrim izstrādāja Nacionālās programmas projektu “Vienotas metodikas izstrāde profesionālās izglītības kvalitātes paaugstināšanai un sociālo partneru iesaistei un izglītošanai”, kas ietver 6 metodikas – nozares izpētes metodika, profesiju standartu izstrādes metodika, profesionālās izglītības programmu izveides metodika, profesionālās kvalifikācijas eksāmenu satura izstrādes metodika, profesionālās izglītības iestāžu darbības kvalitātes nodrošināšanas un novērtēšanas metodika un neformālās izglītības atzīšanas un prasmju novērtēšanas metodika, kā arī metodisku materiālu un izglītības programmu sociālo partneru izglītošanai, mehānismu sociālo partneru iesaistei profesionālās izglītības kvalitātes paaugstināšan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risinājum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1) panākta konceptuāla vienošanās ar sociālajiem partneriem par apakšpadomes nosaukumu, par PINTSA uzdevumu paplašināšanu saistībā ar augstākās un vidējās izglītības jautājumiem, kā arī par nozaru ekspertu padomju izveid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2) iesniegt nolikuma projektu NTSP sēdē apstiprināšana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B480E43-597F-4C7E-96A2-A38A4C912E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ānotie izskatāmie </a:t>
            </a:r>
            <a:br>
              <a:rPr sz="2800"/>
            </a:br>
            <a:r>
              <a:rPr b="0" lang="en-US" sz="2800" spc="-1" strike="noStrike">
                <a:solidFill>
                  <a:srgbClr val="000000"/>
                </a:solidFill>
                <a:latin typeface="Times New Roman"/>
              </a:rPr>
              <a:t>galvenie jautājumi 2008.gadā</a:t>
            </a:r>
            <a:endParaRPr b="0" lang="en-US" sz="2800" spc="-1" strike="noStrike">
              <a:solidFill>
                <a:srgbClr val="000000"/>
              </a:solidFill>
              <a:latin typeface="Arial"/>
            </a:endParaRPr>
          </a:p>
        </p:txBody>
      </p:sp>
      <p:sp>
        <p:nvSpPr>
          <p:cNvPr id="78"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likumprojekta koncepci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eģionālo profesionālās izglītības un nodarbinātības padomju darbība 2007.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RAF darbības programmas “Infrastruktūra un pakalpojumi” aktivitāte 3.1.1.1. “Mācību aprīkojuma modernizācija un infrastruktūras uzlabošana profesionālās izglītības īstenošan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arba tirgus īstermiņa prognozēšanu un aktīvās nodarbinātības pasākumu efektivitāte 2008.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2007./2008.mācību gad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iropas Savienības struktūrfondu līdzekļu plānošana mūžizglītībā un profesionālajā izglītībā 2008.-2013.gad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7A9EBC-49A3-461C-8ECF-C791144329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br>
              <a:rPr sz="2800"/>
            </a:br>
            <a:r>
              <a:rPr b="0" lang="lv-LV" sz="2200" spc="-1" strike="noStrike">
                <a:solidFill>
                  <a:srgbClr val="000000"/>
                </a:solidFill>
                <a:latin typeface="Times New Roman"/>
              </a:rPr>
              <a:t>Sastāvā darbojas 15 pārstāvji no</a:t>
            </a:r>
            <a:br>
              <a:rPr sz="2200"/>
            </a:br>
            <a:endParaRPr b="0" lang="en-US" sz="2200" spc="-1" strike="noStrike">
              <a:solidFill>
                <a:srgbClr val="000000"/>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Valsts, pašvaldību puses:</a:t>
            </a:r>
            <a:endParaRPr b="0" lang="en-US" sz="2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unārs Krusts</a:t>
            </a:r>
            <a:r>
              <a:rPr b="0" lang="lv-LV" sz="2200" spc="-1" strike="noStrike">
                <a:solidFill>
                  <a:srgbClr val="000000"/>
                </a:solidFill>
                <a:latin typeface="Times New Roman"/>
              </a:rPr>
              <a:t>, Izglītības un zinātnes ministrijas Profesionālās izglītības un tālākizglītības departamenta direktor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Burka</a:t>
            </a:r>
            <a:r>
              <a:rPr b="0" lang="lv-LV" sz="2200" spc="-1" strike="noStrike">
                <a:solidFill>
                  <a:srgbClr val="000000"/>
                </a:solidFill>
                <a:latin typeface="Times New Roman"/>
              </a:rPr>
              <a:t>, Ekonomikas ministrijas Uzņēmējdarbības un rūpniecības departamenta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ina Kromāne</a:t>
            </a:r>
            <a:r>
              <a:rPr b="0" lang="lv-LV" sz="2200" spc="-1" strike="noStrike">
                <a:solidFill>
                  <a:srgbClr val="000000"/>
                </a:solidFill>
                <a:latin typeface="Times New Roman"/>
              </a:rPr>
              <a:t>, Labklājības ministrijas Darba departamenta Darba tirgus attīstības nodaļas vadī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Ēriks Leitis</a:t>
            </a:r>
            <a:r>
              <a:rPr b="0" lang="lv-LV" sz="2200" spc="-1" strike="noStrike">
                <a:solidFill>
                  <a:srgbClr val="000000"/>
                </a:solidFill>
                <a:latin typeface="Times New Roman"/>
              </a:rPr>
              <a:t>, Vides ministrijas valsts sekretāra vietniek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igita Gintere</a:t>
            </a:r>
            <a:r>
              <a:rPr b="0" lang="lv-LV" sz="2200" spc="-1" strike="noStrike">
                <a:solidFill>
                  <a:srgbClr val="000000"/>
                </a:solidFill>
                <a:latin typeface="Times New Roman"/>
              </a:rPr>
              <a:t>, Latvijas Pašvaldību savienības Izglītības un kultūras komitejas priekšsēdētāj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36B4B96-A134-4E34-9A8D-5D424C9AC1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glītības un zinātnes ministrija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TSA sekretār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 Ziediņa, tālr.6704796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5DD6FC8-D214-43A4-8193-EF77922EF474}"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darba devēju puse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Dace Šaitere</a:t>
            </a:r>
            <a:r>
              <a:rPr b="0" lang="lv-LV" sz="2200" spc="-1" strike="noStrike">
                <a:solidFill>
                  <a:srgbClr val="000000"/>
                </a:solidFill>
                <a:latin typeface="Times New Roman"/>
              </a:rPr>
              <a:t>, SIA „Grindeks” Personāla departamenta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aida Lāce</a:t>
            </a:r>
            <a:r>
              <a:rPr b="0" lang="lv-LV" sz="2200" spc="-1" strike="noStrike">
                <a:solidFill>
                  <a:srgbClr val="000000"/>
                </a:solidFill>
                <a:latin typeface="Times New Roman"/>
              </a:rPr>
              <a:t>, Latvijas Pašvaldību darba devēju asociācijas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Edgars Dārznieks</a:t>
            </a:r>
            <a:r>
              <a:rPr b="0" lang="lv-LV" sz="2200" spc="-1" strike="noStrike">
                <a:solidFill>
                  <a:srgbClr val="000000"/>
                </a:solidFill>
                <a:latin typeface="Times New Roman"/>
              </a:rPr>
              <a:t>, Mašīnbūves un metālapstrādes rūpniecības uzņēmēju asociācijas izglītības eksper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nda Būmane</a:t>
            </a:r>
            <a:r>
              <a:rPr b="0" lang="lv-LV" sz="2200" spc="-1" strike="noStrike">
                <a:solidFill>
                  <a:srgbClr val="000000"/>
                </a:solidFill>
                <a:latin typeface="Times New Roman"/>
              </a:rPr>
              <a:t>, AS „Latvijas finieris” Personāla un darba samaksas nodaļas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Jānis Dirba</a:t>
            </a:r>
            <a:r>
              <a:rPr b="0" lang="lv-LV" sz="2200" spc="-1" strike="noStrike">
                <a:solidFill>
                  <a:srgbClr val="000000"/>
                </a:solidFill>
                <a:latin typeface="Times New Roman"/>
              </a:rPr>
              <a:t>, Latvijas Energobūvniecības asociācijas direkto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26880EB-D730-4E22-AC00-DCCC2FFC63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arodbiedrību puses:</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īvija Marcinkēviča</a:t>
            </a:r>
            <a:r>
              <a:rPr b="0" lang="lv-LV" sz="2200" spc="-1" strike="noStrike">
                <a:solidFill>
                  <a:srgbClr val="000000"/>
                </a:solidFill>
                <a:latin typeface="Times New Roman"/>
              </a:rPr>
              <a:t>, Latvijas Brīvo arodbiedrību savienības priekšsēdē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Harbaceviča</a:t>
            </a:r>
            <a:r>
              <a:rPr b="0" lang="lv-LV" sz="2200" spc="-1" strike="noStrike">
                <a:solidFill>
                  <a:srgbClr val="000000"/>
                </a:solidFill>
                <a:latin typeface="Times New Roman"/>
              </a:rPr>
              <a:t>, Latvijas Izglītības un zinātnes darbi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Valdis Keris</a:t>
            </a:r>
            <a:r>
              <a:rPr b="0" lang="lv-LV" sz="2200" spc="-1" strike="noStrike">
                <a:solidFill>
                  <a:srgbClr val="000000"/>
                </a:solidFill>
                <a:latin typeface="Times New Roman"/>
              </a:rPr>
              <a:t>, Latvijas Veselības un sociālās aprūpes darbinieku arodbiedrības priekšsēdētāj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Māra Tomsone</a:t>
            </a:r>
            <a:r>
              <a:rPr b="0" lang="lv-LV" sz="2200" spc="-1" strike="noStrike">
                <a:solidFill>
                  <a:srgbClr val="000000"/>
                </a:solidFill>
                <a:latin typeface="Times New Roman"/>
              </a:rPr>
              <a:t>, Latvijas celt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Zanda Grundberga</a:t>
            </a:r>
            <a:r>
              <a:rPr b="0" lang="lv-LV" sz="2200" spc="-1" strike="noStrike">
                <a:solidFill>
                  <a:srgbClr val="000000"/>
                </a:solidFill>
                <a:latin typeface="Times New Roman"/>
              </a:rPr>
              <a:t>, Latvijas Brīvo arodbiedrību savienības speciāliste profesionālās izglītības un nodarbinātības jautājumos</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C7CBF97-348A-4428-8881-1E28C7CB59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izskatīt valsts attīstības plānu, koncepciju, normatīvo aktu projektus profesionālās izglītības, cilvēkresursu attīstības un nodarbinātības jom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 izvērtēt priekšlikumus un sniegt ieteikumus valsts institūcijām un sabiedriskām organizācijām, kas saistītas ar profesionālo izglītību un nodarbinātīb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sadarbības līgumiem un projektiem ar Eiropas Savienības un citu valstu institūcijām profesionālās izglītības,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valsts budžeta un valsts speciālā budžeta līdzekļu efektīvu izlietojumu profesionālās izglītības un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 valsts budžeta finansēto izglītojamo skaitu profesionālajā izglītībā valstī kopumā un katrā reģionā;</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orientācijas un profesionālās tālākizglītības organizācij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izmaiņām profesionālās izglītības iestāžu, izglītības atbalsta iestāžu, mācību un eksaminācijas centru un citu ar profesionālās izglītības īstenošanu saistītu institūciju tīklu struktūr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DDE3EFD-7BE4-430B-9BD2-64ED112222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ju standartu un izglītības programmu izstrādi un aktualizācij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slēguma pārbaudījumu organizāciju profesionālās izglītības iestādēs un mācību un eksaminācijas centros un profesionālās kvalifikācijas piešķiršan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izglītības programmu licencēšanas un profesionālās izglītības iestāžu, mācību un eksaminācijas centru un profesionālās izglītības programmu akreditācijas organizācij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koordinēt reģionālo Profesionālās izglītības un nodarbinātības trīspusējās sadarbības apakšpadomju izveidi un to darbīb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 veikt citus Nacionālās trīspusējās sadarbības padomes un normatīvajos aktos noteiktos uzdevumus, kas attiecas uz profesionālo izglītību,</a:t>
            </a:r>
            <a:r>
              <a:rPr b="0" lang="lv-LV" sz="2000" spc="-1" strike="noStrike">
                <a:solidFill>
                  <a:srgbClr val="000000"/>
                </a:solidFill>
                <a:latin typeface="Times New Roman"/>
              </a:rPr>
              <a:t> </a:t>
            </a:r>
            <a:r>
              <a:rPr b="0" lang="lv-LV" sz="1800" spc="-1" strike="noStrike">
                <a:solidFill>
                  <a:srgbClr val="000000"/>
                </a:solidFill>
                <a:latin typeface="Times New Roman"/>
              </a:rPr>
              <a:t>cilvēkresursu attīstību un nodarbinātīb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D1FCD7B-674A-4477-BD94-D80D2889C9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žu norise 2007.gadā</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februāris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prīl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ūnijs – ārkārtas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jūnij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ugust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okto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decem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pā izskatīti 28 jautājumi, kas attiecas uz vispārējo izglītību, profesionālo izglītību un augstāko izglītību, un tika veikta profesiju standartu saskaņošana un izvirzīšana ekspertu noteikšana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B405584-1497-4783-9519-F11A4A2736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Izglītības jautājumi</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nformācija par esošajiem konkursiem uz budžeta vietām inženiertehniskajās specialitātēs un par iespējamo budžeta vietu palielinājumu inženiertehniskajās specialitātē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eformālās izglītības atzīšana un prasmju novērtēšana</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ar kredītpunktu sistēmas veidošanas principiem profesionālajā izglītīb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Tālākizglītības un neformālās izglītības jautājumi Mūžizglītības koncepcijas kontekst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zglītības un zinātnes ministrijas informatīvs materiāls par Profesionālās izglītības likumprojekta pamatnostādnēm</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kreditācijas organizācijas un norises aspekti</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bsolventu zināšanas darba tiesībās un darba drošībā, to atbilstība darba tirgus prasīb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B25D423-8141-4A40-B1BE-E157570B24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Reģionālās profesionālās izglītības un nodarbinātības padom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ēzeknes reģionālās profesionālās izglītības un nodarbinātības padomes darba rezultāti 2006.gadā un prioritātes 2007.gadā. NVA informācija par nodarbinātības politiku Rēzekn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ienvidlatgales reģionālās profesionālās izglītības un nodarbinātības padomes darba rezultāti 2006.gadā un prioritātes 2007.gadā. NVA informācija par nodarbinātības politiku Daugavpilī</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urzemes reģionālās profesionālās izglītības un nodarbinātības padomes darba rezultāti 2006.gadā un prioritātes 2007.gadā. NVA informācija par nodarbinātības politiku Kurzem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Zemgales reģionālās profesionālās izglītības un nodarbinātības padomes darba rezultāti 2006.gadā un prioritātes 2007.gadā. NVA informācija par nodarbinātības politiku Zemgalē</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1A1E6D8-E690-44D3-92FD-57C8088DE3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3:58:03Z</dcterms:created>
  <dc:creator>iziedina</dc:creator>
  <dc:description/>
  <dc:language>en-US</dc:language>
  <cp:lastModifiedBy>Sanita Diediske</cp:lastModifiedBy>
  <dcterms:modified xsi:type="dcterms:W3CDTF">2008-05-09T08:36:22Z</dcterms:modified>
  <cp:revision>55</cp:revision>
  <dc:subject/>
  <dc:title>Profesionālās izglītības un nodarbinātības trīspusējās sadarbības apakšpadome (turpmāk – PINTSA)</dc:title>
</cp:coreProperties>
</file>